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A6E-C39C-4014-A973-FD249857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7EF-E6E1-4614-A244-A515D39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1A6-8C4D-4BA3-BB00-E59B021B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FD9-3231-4C17-9A32-7ACFE522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FC0-3765-45F7-81C7-31833DF6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660-7424-4331-A131-6DB76AA7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341-D3D3-4BCD-BE82-2B95D5A3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53D-EF75-415E-B2B4-3A6CC6B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36D-CE54-42CA-AE5B-79A89729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CE5-8499-42B6-956A-5929FC2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CAB-F215-47F0-8F53-19CD5E0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23E-8EF5-48F5-9EB0-77A0F3A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7221B3-7A01-415A-9611-9FB6B9C6439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6000" spc="-1" strike="noStrike">
                <a:solidFill>
                  <a:srgbClr val="000000"/>
                </a:solidFill>
                <a:latin typeface="Century Schoolbook"/>
              </a:rPr>
              <a:t>Il palloncino dispetto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4983120" y="1549440"/>
            <a:ext cx="3657600" cy="2590920"/>
          </a:xfrm>
          <a:prstGeom prst="wedgeRoundRectCallout">
            <a:avLst>
              <a:gd name="adj1" fmla="val -72310"/>
              <a:gd name="adj2" fmla="val -218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urlz MT"/>
              </a:rPr>
              <a:t>Il calore è l’ energia che si trasferisce spontaneamente da un corpo a temperatura più alta a uno a temperatura più bass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urlz MT"/>
              </a:rPr>
              <a:t>Esp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43400" y="1447920"/>
            <a:ext cx="46483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Materia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palloncino con 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palloncino con 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cand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7242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urlz MT"/>
              </a:rPr>
              <a:t>Mettiamo il primo palloncino con aria sopra la cand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21120" y="4927680"/>
            <a:ext cx="5029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urlz MT"/>
              </a:rPr>
              <a:t>Cosa succederà 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004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urlz MT"/>
              </a:rPr>
              <a:t>…   </a:t>
            </a:r>
            <a:r>
              <a:rPr b="0" lang="it-IT" sz="4800" spc="-1" strike="noStrike">
                <a:solidFill>
                  <a:srgbClr val="000000"/>
                </a:solidFill>
                <a:latin typeface="Curlz MT"/>
              </a:rPr>
              <a:t>SCOPPIA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urlz MT"/>
              </a:rPr>
              <a:t>Adesso mettiamo sopra la candela il secondo palloncino pieno d’acq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320" y="4647960"/>
            <a:ext cx="3962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Curlz MT"/>
              </a:rPr>
              <a:t>cosa succederà ?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5410080"/>
            <a:ext cx="28195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urlz MT"/>
              </a:rPr>
              <a:t>... niente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urlz MT"/>
              </a:rPr>
              <a:t>Come mai il primo palloncino scoppia e il secondo no ?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urlz MT"/>
              </a:rPr>
              <a:t>Perché l’acqua a differenza dell’aria assorbe il calore della candela e quindi non scoppi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4:43:58Z</dcterms:created>
  <dc:creator>Rasta Luy</dc:creator>
  <dc:description/>
  <dc:language>en-US</dc:language>
  <cp:lastModifiedBy>Laura Polenta</cp:lastModifiedBy>
  <dcterms:modified xsi:type="dcterms:W3CDTF">2011-05-10T21:00:5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